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E3117-D91B-4537-B875-397FDFAB8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ED66F-64D1-4262-A04D-E1B209750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573FA-6D02-4ECF-B9D5-166B438F6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7886C-9F2D-428A-A094-120213FF5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73371-2629-4D62-B871-AB2D718A2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7986E-8648-44FF-9A1E-763A93A26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C6241-9A29-46B4-B3DA-E5ACDADA1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D05BE-2FD6-41CC-8633-50172D3E1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3FF02-9503-40B9-AC06-23AC07E16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A98A5-2EEC-4752-82AE-3FF9DFF77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973FD-A8A1-4530-9895-4B628A495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92B59-0926-4E9E-9DB0-9BAB05A4A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383A8-373E-4559-BE99-1D76998268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1998-12-04T22:13:23Z</dcterms:modified>
  <cp:revision>0</cp:revision>
  <dc:subject/>
  <dc:title>PowerPoint Presentation</dc:title>
</cp:coreProperties>
</file>