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3276-2439-4EE3-A101-9B282C13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CA42-6245-464D-9712-8D9BA719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24F3-C84B-425E-8C2F-F5156CBD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A65F-B547-4DA7-AB71-2799D691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C65C-E9E9-4966-94DA-57B5FBDD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11FB-1033-46C0-819E-1D1832B0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C3BF-4E87-4ABC-8ACE-8B0F6C7B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7478-B04A-4EFD-91C9-D8B9ACF1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82B0-D25E-4303-89B7-2DACA4B1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3E6E-8623-4EAB-B91A-64B0845D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DEE7-4371-4451-B196-E81FB515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92EC-5809-4297-A32F-4F65F29B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28AE-6E68-4601-BD56-9E9FFF5664E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1 2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 de Vries</cp:lastModifiedBy>
  <dcterms:modified xsi:type="dcterms:W3CDTF">2003-07-04T14:16:03Z</dcterms:modified>
  <cp:revision>1</cp:revision>
  <dc:subject/>
  <dc:title>PowerPoint Presentation</dc:title>
</cp:coreProperties>
</file>